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F71-B64B-4D52-91A8-436F9D9B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238-A87D-465E-91D8-C6042BD0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8E7-6324-47F0-B5BD-654E6D1C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BAE-746A-4B90-A39A-A0A21E79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6A5-05F7-449F-8763-97BCA0DB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759-0CCE-4E71-8666-700DD26F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945-C68A-457C-AB68-FF3D43E8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188-6F4D-4CF8-B8D4-2B7141CE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57C-95BE-4EFA-8F43-B82468DF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39F-677B-4CED-A51A-22C7052B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7CB-1223-48F1-913F-05F44867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25B-6731-425C-95C9-D38A674A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067A-C14D-46BB-A9BE-98FC642D7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"/>
          <p:cNvGrpSpPr/>
          <p:nvPr/>
        </p:nvGrpSpPr>
        <p:grpSpPr>
          <a:xfrm>
            <a:off x="-51120" y="-360"/>
            <a:ext cx="9956880" cy="6836040"/>
            <a:chOff x="-51120" y="-360"/>
            <a:chExt cx="9956880" cy="6836040"/>
          </a:xfrm>
        </p:grpSpPr>
        <p:sp>
          <p:nvSpPr>
            <p:cNvPr id="42" name="Text Box 5"/>
            <p:cNvSpPr/>
            <p:nvPr/>
          </p:nvSpPr>
          <p:spPr>
            <a:xfrm>
              <a:off x="213480" y="652680"/>
              <a:ext cx="101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Adhés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-51120" y="2286000"/>
              <a:ext cx="128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oopér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774504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558432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126468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3425400" y="4884480"/>
              <a:ext cx="215856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774504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774504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558432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774504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3425400" y="325692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3425400" y="1627560"/>
              <a:ext cx="215856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3425400" y="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558432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558432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26468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126468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126468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1264680" y="-360"/>
              <a:ext cx="8641080" cy="65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376200" y="3918600"/>
              <a:ext cx="81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Intérê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246960" y="5551200"/>
              <a:ext cx="974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ssiv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1672920" y="6530760"/>
              <a:ext cx="124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oncili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3959640" y="6530760"/>
              <a:ext cx="901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ritiqu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6087240" y="6530760"/>
              <a:ext cx="116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Opposi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8285040" y="6530760"/>
              <a:ext cx="9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Hostil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Oval 34"/>
          <p:cNvSpPr/>
          <p:nvPr/>
        </p:nvSpPr>
        <p:spPr>
          <a:xfrm>
            <a:off x="1523880" y="2819520"/>
            <a:ext cx="1752840" cy="2514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Groupe 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Oval 35"/>
          <p:cNvSpPr/>
          <p:nvPr/>
        </p:nvSpPr>
        <p:spPr>
          <a:xfrm>
            <a:off x="2514600" y="1219320"/>
            <a:ext cx="160020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irec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6705720" y="4267080"/>
            <a:ext cx="1600200" cy="1067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entrepri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Oval 39"/>
          <p:cNvSpPr/>
          <p:nvPr/>
        </p:nvSpPr>
        <p:spPr>
          <a:xfrm>
            <a:off x="3809880" y="2438280"/>
            <a:ext cx="3581640" cy="1981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merciau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3657600" y="2133720"/>
            <a:ext cx="160020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Oval 40"/>
          <p:cNvSpPr/>
          <p:nvPr/>
        </p:nvSpPr>
        <p:spPr>
          <a:xfrm>
            <a:off x="3200400" y="4191120"/>
            <a:ext cx="2286000" cy="838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s de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Oval 41"/>
          <p:cNvSpPr/>
          <p:nvPr/>
        </p:nvSpPr>
        <p:spPr>
          <a:xfrm>
            <a:off x="1676520" y="5181480"/>
            <a:ext cx="2743200" cy="838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ersonnel administrat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Oval 42"/>
          <p:cNvSpPr/>
          <p:nvPr/>
        </p:nvSpPr>
        <p:spPr>
          <a:xfrm>
            <a:off x="1676520" y="304920"/>
            <a:ext cx="175248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29:47Z</dcterms:modified>
  <cp:revision>98</cp:revision>
  <dc:subject/>
  <dc:title>Présentation PowerPoint</dc:title>
</cp:coreProperties>
</file>